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74C-6941-440C-B4FD-AF342C2D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653-C2B7-4716-AD14-0C7D3038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DCCA-54FD-4143-8E28-D649266E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E39-3AB2-4F14-8932-22B42A03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993B-7945-44D4-A46B-2A7B0038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30F5-18C3-461C-B70C-E349382D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280F-A672-4779-AFDA-65C8D4B6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C8E4-01D1-479A-91BA-16BFC6F0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B901-75CF-4957-81D5-8657AE6A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F8B-7D92-4CAC-9D3F-2D87BCBF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CA21-2768-4930-84BD-8F50CB22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25C-6BD0-4951-B34D-B35B15B9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686F-E8BE-4846-B99F-9BC69878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8801-D175-4C36-9DAD-4AA90A24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FA7-D642-4F91-8AE5-6EC7A0D5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47D4-8653-408F-916A-EC3E39F4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96F0-B006-4CEB-8773-8BA563F7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F2037-8D13-4DFC-AABE-39431A46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DD0E-442E-46D5-BAE7-38EEB55F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AE43-B314-451F-89CC-9D00114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1131-5975-4A05-B14A-AA0791AD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2784-AFBE-4929-A351-00C5B24D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8E7A-31D4-4776-BF03-0C5180C1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5788-523A-4E14-A6D0-C95FB8C6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727F5-2961-416D-9C15-12ADDBF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35A80-3AD7-4FCE-8C1D-5B45E18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1F7BD-4261-4379-887F-0C80E06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AB4AA-F6D2-48C4-8BAF-6AFC7F72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45F1A-80E7-46E3-A737-2D4BAC85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8F6D-538E-4CB8-A114-AFBA35DB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21E3B-EA4A-4650-A243-D3A3A93E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7011C-164D-4086-A8DF-7335ADC5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C876-CA3B-4309-BB10-919C3DE7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432-550D-41A2-B5A8-9D329FDE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EE15-C7C2-4BAF-A0CA-2BF2316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39527-ECC2-413A-8D61-0F39E2EF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D1F17-5B1D-4966-B197-1DC3AD79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6051-4577-4631-A8AA-2680041F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1B215-9374-47D7-BD58-F7CB775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9C47C-8385-4FCF-AEBB-9B87E2B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83B2F-5443-465C-9605-C776F9C0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8199-D75B-4FF8-A60E-B39E9EB6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34F82-F7BE-497E-9E7F-E3B9DCA06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3E25-A813-4BD0-9B06-8EDEA5FEF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33E-9C59-45AC-83B8-B538BE0C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E4B4A-1B3F-4306-9DA0-411A3855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6A291-1212-4F18-8EAB-FE55EA42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709B9-E813-416A-82D9-3542ED88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B1E1-FD25-40DD-968F-CD535519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D7E5B-2366-4E40-B199-68D1E5D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19660-2CF4-4D86-8D7B-FF09006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61D0A-6872-49C3-9BF1-1B0F8029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B1CDF-9BEF-4EBA-B5B4-E20F6C7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B9CD2-2450-4DA4-A50E-5EFEA1DD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79961-27D9-48DD-A1B3-D12D564D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92A-9B6D-484E-9A66-9E9735BB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7759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94360" y="144792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7759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094360" y="3557160"/>
            <a:ext cx="220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2588-FC8C-4469-97A3-CCF7F135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3B66-EBBE-48F9-8EE7-7A12FCB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1520" y="355716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0C5-910E-4FD2-9D1E-51F72B94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1520" y="1447920"/>
            <a:ext cx="33465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7160"/>
            <a:ext cx="6858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FE5F-5A69-4F3D-BDE6-62A442A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459D-89F6-45A8-99F0-3931199EA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854A-CE68-492C-A8B7-2CC320CF6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A17A-718A-4B2F-A540-9B2AC69C2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326B-3208-4031-BC80-ABB205068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50141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50141b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50141b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FA6C-56DE-42B5-A9CD-D639655FF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hyperlink" Target="http://www.animationfactory.com/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91120" y="228240"/>
            <a:ext cx="44956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HCS Pacing Guide Training</a:t>
            </a:r>
            <a:endParaRPr b="0" lang="en-US" sz="4400" spc="-1" strike="noStrike">
              <a:solidFill>
                <a:srgbClr val="771f28"/>
              </a:solidFill>
              <a:latin typeface="Calibri"/>
            </a:endParaRPr>
          </a:p>
        </p:txBody>
      </p:sp>
      <p:sp>
        <p:nvSpPr>
          <p:cNvPr id="206" name="Subtitle 2"/>
          <p:cNvSpPr/>
          <p:nvPr/>
        </p:nvSpPr>
        <p:spPr>
          <a:xfrm>
            <a:off x="0" y="5029200"/>
            <a:ext cx="5257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141b"/>
                </a:solidFill>
                <a:latin typeface="Calibri"/>
              </a:rPr>
              <a:t>Elementary Instructional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0141b"/>
                </a:solidFill>
                <a:latin typeface="Calibri"/>
              </a:rPr>
              <a:t>August 18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tle 1"/>
          <p:cNvSpPr/>
          <p:nvPr/>
        </p:nvSpPr>
        <p:spPr>
          <a:xfrm>
            <a:off x="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ontent Placeholder 2"/>
          <p:cNvSpPr/>
          <p:nvPr/>
        </p:nvSpPr>
        <p:spPr>
          <a:xfrm>
            <a:off x="228600" y="1523880"/>
            <a:ext cx="7010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We must collaborate and document what we teach.  It should be a collaborative process to help all teachers understand what is being taught and learned throughout the student’s school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1f28"/>
                </a:solidFill>
                <a:latin typeface="Calibri"/>
              </a:rPr>
              <a:t>TEAM &amp; INDIVIDUAL  </a:t>
            </a:r>
            <a:br>
              <a:rPr sz="4000"/>
            </a:br>
            <a:r>
              <a:rPr b="1" lang="en-US" sz="4000" spc="-1" strike="noStrike">
                <a:solidFill>
                  <a:srgbClr val="771f28"/>
                </a:solidFill>
                <a:latin typeface="Calibri"/>
              </a:rPr>
              <a:t>LESSON PLANNING</a:t>
            </a:r>
            <a:endParaRPr b="0" lang="en-US" sz="4000" spc="-1" strike="noStrike">
              <a:solidFill>
                <a:srgbClr val="771f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0" y="0"/>
          <a:ext cx="9144000" cy="7209000"/>
        </p:xfrm>
        <a:graphic>
          <a:graphicData uri="http://schemas.openxmlformats.org/drawingml/2006/table">
            <a:tbl>
              <a:tblPr/>
              <a:tblGrid>
                <a:gridCol w="1981080"/>
                <a:gridCol w="990720"/>
                <a:gridCol w="441360"/>
                <a:gridCol w="1311120"/>
                <a:gridCol w="1371600"/>
                <a:gridCol w="1616040"/>
                <a:gridCol w="1432080"/>
              </a:tblGrid>
              <a:tr h="407880">
                <a:tc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eacher: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ade: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esson Plan for the Week of____________________________________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7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roup Planning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cial Stu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44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Learning Targe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I CAN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hat will students need to know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52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hat will students be able to 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292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What implied knowledge or words need to be clarified for students to be successful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Essential Question: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588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Assessmen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4800"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Ref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6200" rIns="16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6200" rIns="16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6200" marR="16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able 1" descr=""/>
          <p:cNvPicPr/>
          <p:nvPr/>
        </p:nvPicPr>
        <p:blipFill>
          <a:blip r:embed="rId1"/>
          <a:stretch/>
        </p:blipFill>
        <p:spPr>
          <a:xfrm>
            <a:off x="-73080" y="-73080"/>
            <a:ext cx="9290160" cy="70041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"/>
          <p:cNvSpPr/>
          <p:nvPr/>
        </p:nvSpPr>
        <p:spPr>
          <a:xfrm>
            <a:off x="4800600" y="228600"/>
            <a:ext cx="1112760" cy="3240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TextBox 4"/>
          <p:cNvGrpSpPr/>
          <p:nvPr/>
        </p:nvGrpSpPr>
        <p:grpSpPr>
          <a:xfrm>
            <a:off x="3859200" y="1042920"/>
            <a:ext cx="1876320" cy="1395360"/>
            <a:chOff x="3859200" y="1042920"/>
            <a:chExt cx="1876320" cy="1395360"/>
          </a:xfrm>
        </p:grpSpPr>
        <p:pic>
          <p:nvPicPr>
            <p:cNvPr id="301" name="TextBox 4" descr=""/>
            <p:cNvPicPr/>
            <p:nvPr/>
          </p:nvPicPr>
          <p:blipFill>
            <a:blip r:embed="rId2"/>
            <a:stretch/>
          </p:blipFill>
          <p:spPr>
            <a:xfrm>
              <a:off x="3859200" y="1042920"/>
              <a:ext cx="187632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886200" y="1066680"/>
              <a:ext cx="18288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use assessment to build tailored lesson plans for their own classroom needs; duplicate plans are not permitt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3" name="Straight Arrow Connector 5"/>
          <p:cNvCxnSpPr>
            <a:endCxn id="299" idx="3"/>
          </p:cNvCxnSpPr>
          <p:nvPr/>
        </p:nvCxnSpPr>
        <p:spPr>
          <a:xfrm flipV="1">
            <a:off x="4951800" y="504000"/>
            <a:ext cx="11880" cy="5626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304" name="Oval 11"/>
          <p:cNvSpPr/>
          <p:nvPr/>
        </p:nvSpPr>
        <p:spPr>
          <a:xfrm>
            <a:off x="152280" y="1905120"/>
            <a:ext cx="914400" cy="9144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TextBox 12"/>
          <p:cNvGrpSpPr/>
          <p:nvPr/>
        </p:nvGrpSpPr>
        <p:grpSpPr>
          <a:xfrm>
            <a:off x="1195560" y="2792520"/>
            <a:ext cx="1949400" cy="1033560"/>
            <a:chOff x="1195560" y="2792520"/>
            <a:chExt cx="1949400" cy="1033560"/>
          </a:xfrm>
        </p:grpSpPr>
        <p:pic>
          <p:nvPicPr>
            <p:cNvPr id="306" name="TextBox 12" descr=""/>
            <p:cNvPicPr/>
            <p:nvPr/>
          </p:nvPicPr>
          <p:blipFill>
            <a:blip r:embed="rId3"/>
            <a:stretch/>
          </p:blipFill>
          <p:spPr>
            <a:xfrm>
              <a:off x="1195560" y="2792520"/>
              <a:ext cx="194940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219320" y="2819520"/>
              <a:ext cx="19047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should plan ways to integrate skills and concepts  to maximize  instructional tim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8" name="Straight Arrow Connector 13"/>
          <p:cNvCxnSpPr/>
          <p:nvPr/>
        </p:nvCxnSpPr>
        <p:spPr>
          <a:xfrm flipH="1" flipV="1">
            <a:off x="914040" y="2734560"/>
            <a:ext cx="381600" cy="2372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309" name="Oval 17"/>
          <p:cNvSpPr/>
          <p:nvPr/>
        </p:nvSpPr>
        <p:spPr>
          <a:xfrm>
            <a:off x="6172200" y="228600"/>
            <a:ext cx="990720" cy="4572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TextBox 18"/>
          <p:cNvGrpSpPr/>
          <p:nvPr/>
        </p:nvGrpSpPr>
        <p:grpSpPr>
          <a:xfrm>
            <a:off x="5919840" y="963720"/>
            <a:ext cx="1797120" cy="668520"/>
            <a:chOff x="5919840" y="963720"/>
            <a:chExt cx="1797120" cy="668520"/>
          </a:xfrm>
        </p:grpSpPr>
        <p:pic>
          <p:nvPicPr>
            <p:cNvPr id="311" name="TextBox 18" descr=""/>
            <p:cNvPicPr/>
            <p:nvPr/>
          </p:nvPicPr>
          <p:blipFill>
            <a:blip r:embed="rId4"/>
            <a:stretch/>
          </p:blipFill>
          <p:spPr>
            <a:xfrm>
              <a:off x="5919840" y="963720"/>
              <a:ext cx="17971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943600" y="99072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losure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End of lesson reflec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3" name="Straight Arrow Connector 19"/>
          <p:cNvCxnSpPr/>
          <p:nvPr/>
        </p:nvCxnSpPr>
        <p:spPr>
          <a:xfrm flipV="1">
            <a:off x="6629400" y="685080"/>
            <a:ext cx="216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314" name="Oval 21"/>
          <p:cNvSpPr/>
          <p:nvPr/>
        </p:nvSpPr>
        <p:spPr>
          <a:xfrm>
            <a:off x="1905120" y="228600"/>
            <a:ext cx="1143000" cy="3808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TextBox 22"/>
          <p:cNvGrpSpPr/>
          <p:nvPr/>
        </p:nvGrpSpPr>
        <p:grpSpPr>
          <a:xfrm>
            <a:off x="1268280" y="963720"/>
            <a:ext cx="1578240" cy="1398600"/>
            <a:chOff x="1268280" y="963720"/>
            <a:chExt cx="1578240" cy="1398600"/>
          </a:xfrm>
        </p:grpSpPr>
        <p:pic>
          <p:nvPicPr>
            <p:cNvPr id="316" name="TextBox 22" descr=""/>
            <p:cNvPicPr/>
            <p:nvPr/>
          </p:nvPicPr>
          <p:blipFill>
            <a:blip r:embed="rId5"/>
            <a:stretch/>
          </p:blipFill>
          <p:spPr>
            <a:xfrm>
              <a:off x="1268280" y="963720"/>
              <a:ext cx="157824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295280" y="990720"/>
              <a:ext cx="1533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Students work collaboratively in centers or workstations to complete a task.; Constructive Dialog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8" name="Straight Arrow Connector 23"/>
          <p:cNvCxnSpPr/>
          <p:nvPr/>
        </p:nvCxnSpPr>
        <p:spPr>
          <a:xfrm flipV="1">
            <a:off x="2056320" y="609120"/>
            <a:ext cx="229320" cy="4579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itle 1"/>
          <p:cNvSpPr/>
          <p:nvPr/>
        </p:nvSpPr>
        <p:spPr>
          <a:xfrm>
            <a:off x="0" y="0"/>
            <a:ext cx="7315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ntent Placeholder 2"/>
          <p:cNvSpPr/>
          <p:nvPr/>
        </p:nvSpPr>
        <p:spPr>
          <a:xfrm>
            <a:off x="0" y="533520"/>
            <a:ext cx="7467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Diagnostic Assessment 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s done before teac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beginning of year/ grading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Formative Assessment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 is done while students ar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dai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Classroom Assessment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 is done in multiple measures and is 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week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141b"/>
                </a:solidFill>
                <a:latin typeface="Calibri"/>
              </a:rPr>
              <a:t>Summative Assessment </a:t>
            </a: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s done after the teaching has tak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141b"/>
                </a:solidFill>
                <a:latin typeface="Calibri"/>
              </a:rPr>
              <a:t>(end of year/ grading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3"/>
          <p:cNvSpPr/>
          <p:nvPr/>
        </p:nvSpPr>
        <p:spPr>
          <a:xfrm>
            <a:off x="228600" y="6324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71f28"/>
                </a:solidFill>
                <a:latin typeface="Arial"/>
              </a:rPr>
              <a:t>Do you know your assessments? – Matching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0"/>
          <a:ext cx="9144000" cy="6705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 Assess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mmative Assess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rs during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rs at the end of an instructional un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Grad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grad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a proc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a finished produ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descriptive feedba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s evaluative feedbac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 continu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n at periodic interva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s for enhance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ves feedback of lear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s results to determine next ste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s results to evaluate and gra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323" name="Title 1"/>
          <p:cNvSpPr/>
          <p:nvPr/>
        </p:nvSpPr>
        <p:spPr>
          <a:xfrm>
            <a:off x="380880" y="6324480"/>
            <a:ext cx="82296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Monitoring What is Ta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Content Placeholder 2"/>
          <p:cNvSpPr/>
          <p:nvPr/>
        </p:nvSpPr>
        <p:spPr>
          <a:xfrm>
            <a:off x="0" y="609480"/>
            <a:ext cx="723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50141b"/>
                </a:solidFill>
                <a:latin typeface="Calibri"/>
              </a:rPr>
              <a:t>“</a:t>
            </a:r>
            <a:r>
              <a:rPr b="1" lang="en-US" sz="4100" spc="-1" strike="noStrike">
                <a:solidFill>
                  <a:srgbClr val="50141b"/>
                </a:solidFill>
                <a:latin typeface="Calibri"/>
              </a:rPr>
              <a:t>Even with high standards, exemplary textbooks and powerful assessments, what really matters for learning is the interactions that take place in classrooms.”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- National Research Council (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7"/>
          <p:cNvSpPr/>
          <p:nvPr/>
        </p:nvSpPr>
        <p:spPr>
          <a:xfrm>
            <a:off x="2629080" y="1900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mplate Provid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8">
            <a:hlinkClick r:id="rId1"/>
          </p:cNvPr>
          <p:cNvSpPr/>
          <p:nvPr/>
        </p:nvSpPr>
        <p:spPr>
          <a:xfrm>
            <a:off x="1981080" y="293364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866960" y="342432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0,000 Downloadable PowerPoint Templates, Animated Clip Art, Backgrounds and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2" descr="af_logo_lon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2303640"/>
            <a:ext cx="6019920" cy="76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>
            <a:off x="0" y="571824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457200" y="19051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50141b"/>
                </a:solidFill>
                <a:latin typeface="Calibri"/>
              </a:rPr>
              <a:t>Do you know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50141b"/>
                </a:solidFill>
                <a:latin typeface="Calibri"/>
              </a:rPr>
              <a:t>where you’re going to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tle 1"/>
          <p:cNvSpPr/>
          <p:nvPr/>
        </p:nvSpPr>
        <p:spPr>
          <a:xfrm>
            <a:off x="609480" y="5867280"/>
            <a:ext cx="82296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1f28"/>
                </a:solidFill>
                <a:latin typeface="Calibri"/>
              </a:rPr>
              <a:t>Essential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685800" y="1828800"/>
            <a:ext cx="8229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An essential question is a thought provoking question. It promotes higher level thinking skills.  It starts with how, why, or which is b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_ Jamie McKenz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141b"/>
                </a:solidFill>
                <a:latin typeface="Calibri"/>
              </a:rPr>
              <a:t>Essential questions require analysis, interpretation, inference and/or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le 1"/>
          <p:cNvSpPr/>
          <p:nvPr/>
        </p:nvSpPr>
        <p:spPr>
          <a:xfrm>
            <a:off x="990720" y="457200"/>
            <a:ext cx="607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771f28"/>
                </a:solidFill>
                <a:latin typeface="Calibri"/>
              </a:rPr>
              <a:t>Quote for the D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tent Placeholder 2"/>
          <p:cNvSpPr/>
          <p:nvPr/>
        </p:nvSpPr>
        <p:spPr>
          <a:xfrm>
            <a:off x="152280" y="1143000"/>
            <a:ext cx="7239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50141b"/>
                </a:solidFill>
                <a:latin typeface="Calibri"/>
              </a:rPr>
              <a:t>A master can tell you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50141b"/>
                </a:solidFill>
                <a:latin typeface="Calibri"/>
              </a:rPr>
              <a:t>what he expects of you. </a:t>
            </a:r>
            <a:br>
              <a:rPr sz="5500"/>
            </a:br>
            <a:r>
              <a:rPr b="0" lang="en-US" sz="5500" spc="-1" strike="noStrike">
                <a:solidFill>
                  <a:srgbClr val="50141b"/>
                </a:solidFill>
                <a:latin typeface="Calibri"/>
              </a:rPr>
              <a:t>A teacher, though, awakens your own expectations.</a:t>
            </a:r>
            <a:br>
              <a:rPr sz="32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41b"/>
                </a:solidFill>
                <a:latin typeface="Calibri"/>
              </a:rPr>
              <a:t>Patricia N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tle 1"/>
          <p:cNvSpPr/>
          <p:nvPr/>
        </p:nvSpPr>
        <p:spPr>
          <a:xfrm>
            <a:off x="0" y="0"/>
            <a:ext cx="82296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1f28"/>
                </a:solidFill>
                <a:latin typeface="Calibri"/>
              </a:rPr>
              <a:t>Classroom Expecta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0" y="1222200"/>
            <a:ext cx="73152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Develop an understanding of what the standards mean and know which activities should be used to teach th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mprove reading skil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Include differentiation methods in daily instru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Enhance instruction using challenge and rig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Rely more on formative assess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0141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141b"/>
                </a:solidFill>
                <a:latin typeface="Calibri"/>
              </a:rPr>
              <a:t>Develop systematic, easy ways to interpret and us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tle 3"/>
          <p:cNvSpPr/>
          <p:nvPr/>
        </p:nvSpPr>
        <p:spPr>
          <a:xfrm>
            <a:off x="0" y="53352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1f28"/>
                </a:solidFill>
                <a:latin typeface="Calibri"/>
              </a:rPr>
              <a:t>The Pacing Guide Helps Tea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ontent Placeholder 2"/>
          <p:cNvSpPr/>
          <p:nvPr/>
        </p:nvSpPr>
        <p:spPr>
          <a:xfrm>
            <a:off x="0" y="12193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1.  Pacing help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PLAN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2. Pacing prepare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D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3. </a:t>
            </a: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Pacing prepare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CHECK</a:t>
            </a: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0141b"/>
                </a:solidFill>
                <a:latin typeface="Calibri"/>
              </a:rPr>
              <a:t>4. Pacing prepares the teacher to </a:t>
            </a: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AC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Pacing Guides can be found 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50141b"/>
                </a:solidFill>
                <a:latin typeface="Calibri"/>
              </a:rPr>
              <a:t>http://hcsresources.wikispaces.com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152280"/>
          <a:ext cx="9144000" cy="656460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  <a:gridCol w="1442880"/>
                <a:gridCol w="690840"/>
                <a:gridCol w="2350800"/>
                <a:gridCol w="1916280"/>
              </a:tblGrid>
              <a:tr h="182520">
                <a:tc gridSpan="3"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rst Six Wee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ek Five – September 26 - September 30, 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6">
                  <a:txBody>
                    <a:bodyPr lIns="2880" rIns="2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nstructional Foc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7280"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d96b77"/>
                          </a:solidFill>
                          <a:latin typeface="Times New Roman"/>
                          <a:ea typeface="Calibri"/>
                        </a:rPr>
                        <a:t>Story Theme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d96b77"/>
                          </a:solidFill>
                          <a:latin typeface="Times New Roman"/>
                          <a:ea typeface="Calibri"/>
                        </a:rPr>
                        <a:t>Connections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Trade Books/ Gen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Poet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Informational Tex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Nonfi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Fi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Phonics/ Spel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Long 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pelled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i, ie, i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Plural nouns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with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nd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 Strategy: Prefix mis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Spelling Li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High Frequency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Phonemic Aware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1.05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Use word reference materials (e.g., dictionary, glossary) to confirm decoding skills, verify spelling, and extend meanings of word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1.06: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ad independently daily from self-selected materials (consistent with the student’s independent reading level) to:  extend vocabula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4d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Use glossaries or beginning dictionaries, both print and digital, to determine or clarify the precise meaning of key words and phras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6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quire and use accurately grade appropriate conversational, general academic and domain-specific words and phrases, including those that signal spatial and temporal relationships (e.g. After dinner that night we went looking for them.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Literac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3.01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spond to fiction, nonfiction, poetry, and drama using interpretive, critical, and evaluative processes by: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nsidering characters point of view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SL.3.1a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ome to discussions prepared, having read or studied required material; explicitly draw on that preparation and other information known about the topic to explore ideas under discuss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Comprehension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2.04:  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Identify and interpret elements of fiction and nonfiction and support by referencing the text to determine the: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b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plot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nflict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equence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e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solution,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h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ause and effec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2.06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ummarize main idea(s) from written or spoken texts using succinct languag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RI.3.2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etermine the main ideas and supporting details of a text read aloud or information presented in diverse media and formats, including visually, quantitatively, and orall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RI.3.8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Describe the logical connection between particular sentences and paragraphs in a text </a:t>
                      </a:r>
                      <a:r>
                        <a:rPr b="0" i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(e.g., comparison, cause/effect, first/second/third in a sequence.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Gram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5.05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Use a number of strategies for spelling (e.g., sound patterns, visual patterns, silent letters, lesson common letter grouping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2e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Use conventional spelling for high-frequency and other studied words and for adding suffixes to base wor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uided Reading Grou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1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2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3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d96b77"/>
                          </a:solidFill>
                          <a:uFillTx/>
                          <a:latin typeface="Times New Roman"/>
                          <a:ea typeface="Calibri"/>
                        </a:rPr>
                        <a:t>Group 4: Leveled Read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" rIns="2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Handwriting/ Writ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4.08: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Focus reflection and revision (with assistance) on target elements by: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adding descriptive words and phrases; </a:t>
                      </a:r>
                      <a:r>
                        <a:rPr b="1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b)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strengthening word choic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L.3.3a</a:t>
                      </a:r>
                      <a:r>
                        <a:rPr b="0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: </a:t>
                      </a:r>
                      <a:r>
                        <a:rPr b="0" i="1" lang="en-US" sz="10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hoose words and phrases for effec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Spiral and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5.02: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Use correct subject/verb agreement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3.01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spond to fiction, nonfiction, poetry, and drama using interpretive, critical, and evaluative processes by: </a:t>
                      </a:r>
                      <a:r>
                        <a:rPr b="1" i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)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nsidering the differences among genres; </a:t>
                      </a:r>
                      <a:r>
                        <a:rPr b="1" i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b)</a:t>
                      </a:r>
                      <a:r>
                        <a:rPr b="0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relating plot, setting, and characters to own experiences and idea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(Additional NC Standard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80" marR="2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Oval 2"/>
          <p:cNvSpPr/>
          <p:nvPr/>
        </p:nvSpPr>
        <p:spPr>
          <a:xfrm>
            <a:off x="0" y="609480"/>
            <a:ext cx="1371600" cy="358164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Straight Arrow Connector 4"/>
          <p:cNvCxnSpPr/>
          <p:nvPr/>
        </p:nvCxnSpPr>
        <p:spPr>
          <a:xfrm flipV="1">
            <a:off x="456120" y="4190400"/>
            <a:ext cx="229320" cy="106740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grpSp>
        <p:nvGrpSpPr>
          <p:cNvPr id="220" name="TextBox 5"/>
          <p:cNvGrpSpPr/>
          <p:nvPr/>
        </p:nvGrpSpPr>
        <p:grpSpPr>
          <a:xfrm>
            <a:off x="-23760" y="5310360"/>
            <a:ext cx="1797120" cy="1609560"/>
            <a:chOff x="-23760" y="5310360"/>
            <a:chExt cx="1797120" cy="1609560"/>
          </a:xfrm>
        </p:grpSpPr>
        <p:pic>
          <p:nvPicPr>
            <p:cNvPr id="221" name="TextBox 5" descr=""/>
            <p:cNvPicPr/>
            <p:nvPr/>
          </p:nvPicPr>
          <p:blipFill>
            <a:blip r:embed="rId1"/>
            <a:stretch/>
          </p:blipFill>
          <p:spPr>
            <a:xfrm>
              <a:off x="-23760" y="5310360"/>
              <a:ext cx="179712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5334120"/>
              <a:ext cx="175248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urlz MT"/>
                </a:rPr>
                <a:t>Teachers will select a variety of text for the week to increase student exposure and support theme un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Oval 6"/>
          <p:cNvSpPr/>
          <p:nvPr/>
        </p:nvSpPr>
        <p:spPr>
          <a:xfrm>
            <a:off x="1371600" y="914400"/>
            <a:ext cx="1371600" cy="35812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TextBox 7"/>
          <p:cNvGrpSpPr/>
          <p:nvPr/>
        </p:nvGrpSpPr>
        <p:grpSpPr>
          <a:xfrm>
            <a:off x="2030400" y="5230800"/>
            <a:ext cx="1798560" cy="1581120"/>
            <a:chOff x="2030400" y="5230800"/>
            <a:chExt cx="1798560" cy="1581120"/>
          </a:xfrm>
        </p:grpSpPr>
        <p:pic>
          <p:nvPicPr>
            <p:cNvPr id="225" name="TextBox 7" descr=""/>
            <p:cNvPicPr/>
            <p:nvPr/>
          </p:nvPicPr>
          <p:blipFill>
            <a:blip r:embed="rId2"/>
            <a:stretch/>
          </p:blipFill>
          <p:spPr>
            <a:xfrm>
              <a:off x="2030400" y="5230800"/>
              <a:ext cx="17985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057400" y="5257800"/>
              <a:ext cx="17524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identify spelling words based on the Phonics/ Spelling Skill for the Week, as well as, vocabulary to support language develo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Straight Arrow Connector 8"/>
          <p:cNvCxnSpPr/>
          <p:nvPr/>
        </p:nvCxnSpPr>
        <p:spPr>
          <a:xfrm flipH="1" flipV="1">
            <a:off x="2285280" y="4419360"/>
            <a:ext cx="229320" cy="7624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28" name="Oval 11"/>
          <p:cNvSpPr/>
          <p:nvPr/>
        </p:nvSpPr>
        <p:spPr>
          <a:xfrm>
            <a:off x="1295280" y="457200"/>
            <a:ext cx="7543800" cy="3808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TextBox 12"/>
          <p:cNvGrpSpPr/>
          <p:nvPr/>
        </p:nvGrpSpPr>
        <p:grpSpPr>
          <a:xfrm>
            <a:off x="963720" y="128520"/>
            <a:ext cx="1798560" cy="316080"/>
            <a:chOff x="963720" y="128520"/>
            <a:chExt cx="1798560" cy="316080"/>
          </a:xfrm>
        </p:grpSpPr>
        <p:pic>
          <p:nvPicPr>
            <p:cNvPr id="230" name="TextBox 12" descr=""/>
            <p:cNvPicPr/>
            <p:nvPr/>
          </p:nvPicPr>
          <p:blipFill>
            <a:blip r:embed="rId3"/>
            <a:stretch/>
          </p:blipFill>
          <p:spPr>
            <a:xfrm>
              <a:off x="963720" y="128520"/>
              <a:ext cx="179856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90720" y="152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Literacy Compon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2" name="Straight Arrow Connector 14"/>
          <p:cNvCxnSpPr/>
          <p:nvPr/>
        </p:nvCxnSpPr>
        <p:spPr>
          <a:xfrm>
            <a:off x="1371600" y="457200"/>
            <a:ext cx="381600" cy="766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33" name="Oval 25"/>
          <p:cNvSpPr/>
          <p:nvPr/>
        </p:nvSpPr>
        <p:spPr>
          <a:xfrm>
            <a:off x="4800600" y="6858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TextBox 26"/>
          <p:cNvGrpSpPr/>
          <p:nvPr/>
        </p:nvGrpSpPr>
        <p:grpSpPr>
          <a:xfrm>
            <a:off x="3554280" y="2182680"/>
            <a:ext cx="2028960" cy="322560"/>
            <a:chOff x="3554280" y="2182680"/>
            <a:chExt cx="2028960" cy="322560"/>
          </a:xfrm>
        </p:grpSpPr>
        <p:pic>
          <p:nvPicPr>
            <p:cNvPr id="235" name="TextBox 26" descr=""/>
            <p:cNvPicPr/>
            <p:nvPr/>
          </p:nvPicPr>
          <p:blipFill>
            <a:blip r:embed="rId4"/>
            <a:stretch/>
          </p:blipFill>
          <p:spPr>
            <a:xfrm>
              <a:off x="3554280" y="2182680"/>
              <a:ext cx="202896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1280" y="2209680"/>
              <a:ext cx="198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NC SCOS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7" name="Straight Arrow Connector 27"/>
          <p:cNvCxnSpPr/>
          <p:nvPr/>
        </p:nvCxnSpPr>
        <p:spPr>
          <a:xfrm flipV="1">
            <a:off x="4648320" y="1751760"/>
            <a:ext cx="305280" cy="4453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grpSp>
        <p:nvGrpSpPr>
          <p:cNvPr id="238" name="TextBox 30"/>
          <p:cNvGrpSpPr/>
          <p:nvPr/>
        </p:nvGrpSpPr>
        <p:grpSpPr>
          <a:xfrm>
            <a:off x="3249720" y="3859200"/>
            <a:ext cx="1798560" cy="668520"/>
            <a:chOff x="3249720" y="3859200"/>
            <a:chExt cx="1798560" cy="668520"/>
          </a:xfrm>
        </p:grpSpPr>
        <p:pic>
          <p:nvPicPr>
            <p:cNvPr id="239" name="TextBox 30" descr=""/>
            <p:cNvPicPr/>
            <p:nvPr/>
          </p:nvPicPr>
          <p:blipFill>
            <a:blip r:embed="rId5"/>
            <a:stretch/>
          </p:blipFill>
          <p:spPr>
            <a:xfrm>
              <a:off x="3249720" y="3859200"/>
              <a:ext cx="17985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276720" y="388620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rrespond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mmon Core Standar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1" name="Straight Arrow Connector 31"/>
          <p:cNvCxnSpPr/>
          <p:nvPr/>
        </p:nvCxnSpPr>
        <p:spPr>
          <a:xfrm flipV="1">
            <a:off x="4494600" y="3504960"/>
            <a:ext cx="381960" cy="38160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42" name="Oval 33"/>
          <p:cNvSpPr/>
          <p:nvPr/>
        </p:nvSpPr>
        <p:spPr>
          <a:xfrm>
            <a:off x="4800600" y="25146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35"/>
          <p:cNvSpPr/>
          <p:nvPr/>
        </p:nvSpPr>
        <p:spPr>
          <a:xfrm>
            <a:off x="4876920" y="5257800"/>
            <a:ext cx="226512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36"/>
          <p:cNvCxnSpPr/>
          <p:nvPr/>
        </p:nvCxnSpPr>
        <p:spPr>
          <a:xfrm>
            <a:off x="7162560" y="5866920"/>
            <a:ext cx="229320" cy="25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grpSp>
        <p:nvGrpSpPr>
          <p:cNvPr id="245" name="TextBox 37"/>
          <p:cNvGrpSpPr/>
          <p:nvPr/>
        </p:nvGrpSpPr>
        <p:grpSpPr>
          <a:xfrm>
            <a:off x="7364520" y="5614920"/>
            <a:ext cx="1798560" cy="689040"/>
            <a:chOff x="7364520" y="5614920"/>
            <a:chExt cx="1798560" cy="689040"/>
          </a:xfrm>
        </p:grpSpPr>
        <p:pic>
          <p:nvPicPr>
            <p:cNvPr id="246" name="TextBox 37" descr=""/>
            <p:cNvPicPr/>
            <p:nvPr/>
          </p:nvPicPr>
          <p:blipFill>
            <a:blip r:embed="rId6"/>
            <a:stretch/>
          </p:blipFill>
          <p:spPr>
            <a:xfrm>
              <a:off x="7364520" y="5614920"/>
              <a:ext cx="17985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391520" y="563868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How will teachers differentiate for small group instruction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TextBox 40"/>
          <p:cNvGrpSpPr/>
          <p:nvPr/>
        </p:nvGrpSpPr>
        <p:grpSpPr>
          <a:xfrm>
            <a:off x="6986520" y="4011480"/>
            <a:ext cx="2024280" cy="1033560"/>
            <a:chOff x="6986520" y="4011480"/>
            <a:chExt cx="2024280" cy="1033560"/>
          </a:xfrm>
        </p:grpSpPr>
        <p:pic>
          <p:nvPicPr>
            <p:cNvPr id="249" name="TextBox 40" descr=""/>
            <p:cNvPicPr/>
            <p:nvPr/>
          </p:nvPicPr>
          <p:blipFill>
            <a:blip r:embed="rId7"/>
            <a:stretch/>
          </p:blipFill>
          <p:spPr>
            <a:xfrm>
              <a:off x="6986520" y="4011480"/>
              <a:ext cx="202428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010280" y="4038480"/>
              <a:ext cx="1981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Objectives to be reviewed.  Teachers may add to this list as determined by formative assess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1" name="Straight Arrow Connector 41"/>
          <p:cNvCxnSpPr/>
          <p:nvPr/>
        </p:nvCxnSpPr>
        <p:spPr>
          <a:xfrm flipV="1">
            <a:off x="8077320" y="3428280"/>
            <a:ext cx="2160" cy="61020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52" name="Oval 42"/>
          <p:cNvSpPr/>
          <p:nvPr/>
        </p:nvSpPr>
        <p:spPr>
          <a:xfrm>
            <a:off x="6878520" y="20574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282760"/>
                <a:gridCol w="2286000"/>
                <a:gridCol w="2282760"/>
                <a:gridCol w="2292480"/>
              </a:tblGrid>
              <a:tr h="6858000"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M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7f7f7f"/>
                          </a:solidFill>
                          <a:uFillTx/>
                          <a:latin typeface="Times New Roman"/>
                          <a:ea typeface="Calibri"/>
                        </a:rPr>
                        <a:t>Everyday Math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5-Change Number St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6-Comparison Number Sto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7 –The Partial-Sums Algorith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ctivity 2, 8-Subtraction Algorith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ectives (NCSCOS)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1.0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Develop number sense for whole numbers through 9,99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onnect model, number word, and number using a variety of representation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1.02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Develop fluency with multi-digit addition and subtraction through 9,999 using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a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trategies for adding and subtracting number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lationships between operation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5.02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Extend and find missing terms of repeating and growing pattern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5.04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Find the value of the unknown in a number sentenc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	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ommon Core Standards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3.NBT.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- Use place value understanding and properties of operations to perform multi-dig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NC DPI Indicator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trategie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1.02 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cognize diverse local, state, and national leaders, past and present, who demonstrate responsible citizenshi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2.03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Describe similarities and differences among communities in different times and in different plac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Obj. 3.0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Analyze changes, which have occurred in communities past and presen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 3.G.1.2</a:t>
                      </a:r>
                      <a:r>
                        <a:rPr b="0" i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Compare the human and physical characteristics of place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3.02 Observe that objects in the sky have patterns of movement including:  Sun, moon, stars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3.06 Observe that patterns of stars in the sky stay the same although they appear to move across the sky nightl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CCSS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ES 3.E.1.1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: </a:t>
                      </a:r>
                      <a:r>
                        <a:rPr b="0" i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Recognize that the earth is part of a system called the solar system that includes the sun (a star), planets, and many moons and the earth is the third planet from the sun in our solar system.</a:t>
                      </a: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PI Unit Lesson 15- Dipper Find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Lesson 16- Special Constellation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Students should be able to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Draw the Little Dipp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Label Pola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Vocabular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Morning Meeting/ Daily Revi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7f7f7f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4" name="Oval 2"/>
          <p:cNvSpPr/>
          <p:nvPr/>
        </p:nvSpPr>
        <p:spPr>
          <a:xfrm>
            <a:off x="0" y="13716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TextBox 3"/>
          <p:cNvGrpSpPr/>
          <p:nvPr/>
        </p:nvGrpSpPr>
        <p:grpSpPr>
          <a:xfrm>
            <a:off x="2262240" y="1725480"/>
            <a:ext cx="2023920" cy="322560"/>
            <a:chOff x="2262240" y="1725480"/>
            <a:chExt cx="2023920" cy="322560"/>
          </a:xfrm>
        </p:grpSpPr>
        <p:pic>
          <p:nvPicPr>
            <p:cNvPr id="256" name="TextBox 3" descr=""/>
            <p:cNvPicPr/>
            <p:nvPr/>
          </p:nvPicPr>
          <p:blipFill>
            <a:blip r:embed="rId1"/>
            <a:stretch/>
          </p:blipFill>
          <p:spPr>
            <a:xfrm>
              <a:off x="2262240" y="1725480"/>
              <a:ext cx="202392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286000" y="175248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Everyday Math Less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8" name="Straight Arrow Connector 4"/>
          <p:cNvCxnSpPr/>
          <p:nvPr/>
        </p:nvCxnSpPr>
        <p:spPr>
          <a:xfrm flipH="1" flipV="1">
            <a:off x="1980360" y="1447560"/>
            <a:ext cx="305640" cy="30528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59" name="Oval 5"/>
          <p:cNvSpPr/>
          <p:nvPr/>
        </p:nvSpPr>
        <p:spPr>
          <a:xfrm>
            <a:off x="4495680" y="259092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TextBox 6"/>
          <p:cNvGrpSpPr/>
          <p:nvPr/>
        </p:nvGrpSpPr>
        <p:grpSpPr>
          <a:xfrm>
            <a:off x="2487600" y="2639880"/>
            <a:ext cx="2028960" cy="322560"/>
            <a:chOff x="2487600" y="2639880"/>
            <a:chExt cx="2028960" cy="322560"/>
          </a:xfrm>
        </p:grpSpPr>
        <p:pic>
          <p:nvPicPr>
            <p:cNvPr id="261" name="TextBox 6" descr=""/>
            <p:cNvPicPr/>
            <p:nvPr/>
          </p:nvPicPr>
          <p:blipFill>
            <a:blip r:embed="rId2"/>
            <a:stretch/>
          </p:blipFill>
          <p:spPr>
            <a:xfrm>
              <a:off x="2487600" y="2639880"/>
              <a:ext cx="202896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2514600" y="266688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NC SCOS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3" name="Straight Arrow Connector 7"/>
          <p:cNvCxnSpPr/>
          <p:nvPr/>
        </p:nvCxnSpPr>
        <p:spPr>
          <a:xfrm flipH="1" flipV="1">
            <a:off x="2057040" y="2437560"/>
            <a:ext cx="457920" cy="38196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64" name="Oval 8"/>
          <p:cNvSpPr/>
          <p:nvPr/>
        </p:nvSpPr>
        <p:spPr>
          <a:xfrm>
            <a:off x="0" y="43434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TextBox 9"/>
          <p:cNvGrpSpPr/>
          <p:nvPr/>
        </p:nvGrpSpPr>
        <p:grpSpPr>
          <a:xfrm>
            <a:off x="2182680" y="4316400"/>
            <a:ext cx="2028960" cy="668520"/>
            <a:chOff x="2182680" y="4316400"/>
            <a:chExt cx="2028960" cy="668520"/>
          </a:xfrm>
        </p:grpSpPr>
        <p:pic>
          <p:nvPicPr>
            <p:cNvPr id="266" name="TextBox 9" descr=""/>
            <p:cNvPicPr/>
            <p:nvPr/>
          </p:nvPicPr>
          <p:blipFill>
            <a:blip r:embed="rId3"/>
            <a:stretch/>
          </p:blipFill>
          <p:spPr>
            <a:xfrm>
              <a:off x="2182680" y="4316400"/>
              <a:ext cx="2028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209680" y="4343400"/>
              <a:ext cx="1981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rrespondi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Common Core Standar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8" name="Straight Arrow Connector 10"/>
          <p:cNvCxnSpPr/>
          <p:nvPr/>
        </p:nvCxnSpPr>
        <p:spPr>
          <a:xfrm flipH="1">
            <a:off x="1523160" y="4570920"/>
            <a:ext cx="76284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69" name="Oval 11"/>
          <p:cNvSpPr/>
          <p:nvPr/>
        </p:nvSpPr>
        <p:spPr>
          <a:xfrm>
            <a:off x="0" y="228600"/>
            <a:ext cx="226548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TextBox 12"/>
          <p:cNvGrpSpPr/>
          <p:nvPr/>
        </p:nvGrpSpPr>
        <p:grpSpPr>
          <a:xfrm>
            <a:off x="4700520" y="1725480"/>
            <a:ext cx="2024280" cy="486000"/>
            <a:chOff x="4700520" y="1725480"/>
            <a:chExt cx="2024280" cy="486000"/>
          </a:xfrm>
        </p:grpSpPr>
        <p:pic>
          <p:nvPicPr>
            <p:cNvPr id="271" name="TextBox 12" descr=""/>
            <p:cNvPicPr/>
            <p:nvPr/>
          </p:nvPicPr>
          <p:blipFill>
            <a:blip r:embed="rId4"/>
            <a:stretch/>
          </p:blipFill>
          <p:spPr>
            <a:xfrm>
              <a:off x="4700520" y="1725480"/>
              <a:ext cx="202428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724280" y="1752480"/>
              <a:ext cx="1981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Suggested Hands-On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3" name="Straight Arrow Connector 13"/>
          <p:cNvCxnSpPr/>
          <p:nvPr/>
        </p:nvCxnSpPr>
        <p:spPr>
          <a:xfrm flipH="1">
            <a:off x="5637960" y="2133720"/>
            <a:ext cx="2520" cy="4579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74" name="Oval 18"/>
          <p:cNvSpPr/>
          <p:nvPr/>
        </p:nvSpPr>
        <p:spPr>
          <a:xfrm>
            <a:off x="-152280" y="5486400"/>
            <a:ext cx="2265120" cy="13716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TextBox 19"/>
          <p:cNvGrpSpPr/>
          <p:nvPr/>
        </p:nvGrpSpPr>
        <p:grpSpPr>
          <a:xfrm>
            <a:off x="2262240" y="5840280"/>
            <a:ext cx="2023920" cy="851040"/>
            <a:chOff x="2262240" y="5840280"/>
            <a:chExt cx="2023920" cy="851040"/>
          </a:xfrm>
        </p:grpSpPr>
        <p:pic>
          <p:nvPicPr>
            <p:cNvPr id="276" name="TextBox 19" descr=""/>
            <p:cNvPicPr/>
            <p:nvPr/>
          </p:nvPicPr>
          <p:blipFill>
            <a:blip r:embed="rId5"/>
            <a:stretch/>
          </p:blipFill>
          <p:spPr>
            <a:xfrm>
              <a:off x="2262240" y="5840280"/>
              <a:ext cx="202392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286000" y="5867280"/>
              <a:ext cx="1981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identify Indicators and Strategies to support weekly objectiv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8" name="Straight Arrow Connector 20"/>
          <p:cNvCxnSpPr/>
          <p:nvPr/>
        </p:nvCxnSpPr>
        <p:spPr>
          <a:xfrm flipH="1" flipV="1">
            <a:off x="1752120" y="6095160"/>
            <a:ext cx="610560" cy="252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79" name="Oval 23"/>
          <p:cNvSpPr/>
          <p:nvPr/>
        </p:nvSpPr>
        <p:spPr>
          <a:xfrm>
            <a:off x="6878520" y="0"/>
            <a:ext cx="2265480" cy="45720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TextBox 24"/>
          <p:cNvGrpSpPr/>
          <p:nvPr/>
        </p:nvGrpSpPr>
        <p:grpSpPr>
          <a:xfrm>
            <a:off x="6986520" y="738360"/>
            <a:ext cx="2024280" cy="1760400"/>
            <a:chOff x="6986520" y="738360"/>
            <a:chExt cx="2024280" cy="1760400"/>
          </a:xfrm>
        </p:grpSpPr>
        <p:pic>
          <p:nvPicPr>
            <p:cNvPr id="281" name="TextBox 24" descr=""/>
            <p:cNvPicPr/>
            <p:nvPr/>
          </p:nvPicPr>
          <p:blipFill>
            <a:blip r:embed="rId6"/>
            <a:stretch/>
          </p:blipFill>
          <p:spPr>
            <a:xfrm>
              <a:off x="6986520" y="738360"/>
              <a:ext cx="2024280" cy="14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010280" y="762120"/>
              <a:ext cx="198144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plan a 15-20 minute class meeting to explain daily learning targets, review of previous day and/ or homework.  A reflection time should also be incorporated at the end of the d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3" name="Straight Arrow Connector 25"/>
          <p:cNvCxnSpPr/>
          <p:nvPr/>
        </p:nvCxnSpPr>
        <p:spPr>
          <a:xfrm flipV="1">
            <a:off x="7999560" y="457920"/>
            <a:ext cx="360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  <p:sp>
        <p:nvSpPr>
          <p:cNvPr id="284" name="Oval 28"/>
          <p:cNvSpPr/>
          <p:nvPr/>
        </p:nvSpPr>
        <p:spPr>
          <a:xfrm>
            <a:off x="4495680" y="3962520"/>
            <a:ext cx="1219320" cy="380880"/>
          </a:xfrm>
          <a:prstGeom prst="ellipse">
            <a:avLst/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TextBox 29"/>
          <p:cNvGrpSpPr/>
          <p:nvPr/>
        </p:nvGrpSpPr>
        <p:grpSpPr>
          <a:xfrm>
            <a:off x="5535720" y="4548240"/>
            <a:ext cx="1798560" cy="689040"/>
            <a:chOff x="5535720" y="4548240"/>
            <a:chExt cx="1798560" cy="689040"/>
          </a:xfrm>
        </p:grpSpPr>
        <p:pic>
          <p:nvPicPr>
            <p:cNvPr id="286" name="TextBox 29" descr=""/>
            <p:cNvPicPr/>
            <p:nvPr/>
          </p:nvPicPr>
          <p:blipFill>
            <a:blip r:embed="rId7"/>
            <a:stretch/>
          </p:blipFill>
          <p:spPr>
            <a:xfrm>
              <a:off x="5535720" y="4548240"/>
              <a:ext cx="179856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562720" y="4572000"/>
              <a:ext cx="1752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urlz MT"/>
                </a:rPr>
                <a:t>Teachers will identify key vocabulary terms for each subject area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8" name="Straight Arrow Connector 30"/>
          <p:cNvCxnSpPr/>
          <p:nvPr/>
        </p:nvCxnSpPr>
        <p:spPr>
          <a:xfrm flipH="1" flipV="1">
            <a:off x="5257080" y="4342680"/>
            <a:ext cx="415080" cy="305640"/>
          </a:xfrm>
          <a:prstGeom prst="straightConnector1">
            <a:avLst/>
          </a:prstGeom>
          <a:ln w="9360">
            <a:solidFill>
              <a:srgbClr val="f07c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Content Placeholder 3" descr="H:\FANNI\COLLABORATI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6b9f25"/>
            </a:solidFill>
            <a:miter/>
          </a:ln>
        </p:spPr>
      </p:pic>
      <p:sp>
        <p:nvSpPr>
          <p:cNvPr id="290" name="TextBox 2"/>
          <p:cNvSpPr/>
          <p:nvPr/>
        </p:nvSpPr>
        <p:spPr>
          <a:xfrm>
            <a:off x="4114800" y="1600200"/>
            <a:ext cx="236232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Tea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304920" y="1523880"/>
            <a:ext cx="20574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7467480" y="1523880"/>
            <a:ext cx="16765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al C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32:21Z</dcterms:created>
  <dc:creator>mcclainl</dc:creator>
  <dc:description/>
  <dc:language>en-US</dc:language>
  <cp:lastModifiedBy>TECH</cp:lastModifiedBy>
  <dcterms:modified xsi:type="dcterms:W3CDTF">2011-08-16T15:12:46Z</dcterms:modified>
  <cp:revision>37</cp:revision>
  <dc:subject/>
  <dc:title>HCS Pacing Guide 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8051033</vt:lpwstr>
  </property>
</Properties>
</file>